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explode.wav" ContentType="audio/x-wav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4AA9C-1552-4E56-85C3-CBE987CA2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48F20-C635-4B0F-9F5E-9C72C83C2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B3D6C-2136-4D02-AE2C-989881DFC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7FD2C-31A5-4E7D-B7E5-8FC948B48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AF1EA-9617-4ECF-8747-ADE820134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25985-FA8A-4668-A4F9-A756416B3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C2A7E-F3A1-4AF4-B08F-5094EB247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F59B8-47AF-4C33-8852-B8897DA2B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FBBE2-EF5F-413C-B383-9109A6CD2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20496-CED6-45AF-9756-68E3E41C8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B6CD9-1E2F-49C8-98EF-19B1FFDAE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F407C-A07C-444C-A685-C8F3781ED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FD2C0-E950-411C-81F6-61F445267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6E42D-5AD7-4610-8ACA-7DCB8DDC6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8A395-4C81-4B8F-88A1-20459C948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87AA3-7101-4CA9-AB26-D7F8B3652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04DCE-DFEA-4AE2-AB83-3B46DFC32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A44FF-AF8F-4533-9387-380FC6608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5CB77-C492-4C8C-BC58-3BC64D282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4242F-4445-4534-95F9-89C9D97DF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1DE9B-E0F8-4B95-A79B-4D8D09CF7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C4AAC-723C-4D09-85EC-7D00248E8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528DE-C778-42C3-B6BC-5523362F7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7B765-654C-418A-985C-3BB852400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23A46-D509-4033-9740-EC37B2ECC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0553C-79E9-46BB-86E7-4DC0E001C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FC726-D9BF-49CF-97C2-7C1BA0C4C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6CE23-A49E-4C8D-A623-23991EA51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A47-48B5-4F9E-86FB-54093E9D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DDF-29A1-4C29-84CD-92583A41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78C-50F8-4C13-AF11-CBE085A1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032-7440-44AC-9C3D-1B16405A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665B-8242-4D22-95F7-1B7EBA45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AF01-A2DC-4C0F-9FFF-19B79C1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9CC7-9961-4052-9B8B-0E17A1F1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DCC3-CE3B-460E-A2DC-E843B465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9545-6165-44F1-AD1D-BC8793AD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D395-02CF-40C2-8F53-951344DB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6104-C36B-494C-AC75-BC939BF0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8A6-8018-430B-901F-BBBE2370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971D-8998-498D-A613-4DCD73A3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6DB3-53E5-4958-BDA5-AEF63004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99DC-ACBA-4625-A528-1034A017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4DBC-FA75-4ADF-863B-B0017928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3E6B-EA4D-4E2A-8E0C-CA306A12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3EF1A-AEAF-467F-89EC-88E863AD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87242-B7C7-4DA7-ADA8-20CC4331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29811-D201-4FFD-BAE8-E01356C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AD890-9C42-48EA-A836-318D6949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BCA9E-0D58-419B-AC27-D460616B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0DE-00CB-4495-9B98-9A6E3640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CF2BA-0A8B-4689-A5D3-52F8F867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90C3B-66E5-46EF-83A8-AE4C0DEE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9924A-EE30-4B00-8890-0D5AFDE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2DD7D-57D3-43C0-A559-4A0ED2E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56640-41A5-4A51-A07F-4F22A4A4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7AF26-49C4-41ED-9E8B-8DD384B9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A394F-776A-429C-906B-8A35E79A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540D7-F100-4D2C-877C-304CFD9D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4E72F-8644-445C-8A81-38421A51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16344-F2A8-4240-97DC-AC1A7008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5AD-E4E5-4ADF-A498-BB962E48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D4E8B-8469-4BA1-86D5-02BA67A3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DD33E-551B-43FD-884F-D0772B5B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BE0E3-3469-49D0-A7B6-55D3A9F2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16C98-492A-483A-911A-C3B5577A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F1600-432C-4053-82E3-DE4400DD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CE4C73-62E0-449C-BBFF-29F54FA0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7F18C-6862-4603-99C7-FED8DC92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6D61F-6AF5-406B-8304-698060D7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DD77C-B231-4F68-83EB-2C05BCC2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5CDBB-AB17-4567-ADC8-302551F9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1DE-BA0E-422E-B17D-650A7167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B8E69-3ACF-4739-BF19-9A481C31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6DDB6-8D0A-4DC7-9054-9065BD7F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88C88-9920-4334-B1E5-2C186E19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60CBB-6D7B-4CD0-8A60-F4A1C1C6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E2915-9555-4FCC-BE58-BD9905D7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2EB4D-F8DE-4200-860C-9F3F40B0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DF608-55DE-4733-AE03-94A7017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9592E-2E81-48FC-9070-83B2236D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938F1-C5FB-4EAF-BAD9-2B677BB2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A2473-AAB5-4F7A-A823-8C6829B9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1DF-9E07-498C-8509-45574337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9C73F-E4A2-4EC0-AE50-AE186AA2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EC260-89AB-4AEA-A734-64E94C32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ED255-76BA-4136-A37A-93997D21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76471-44A4-4234-9C65-D8528F38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EE865-4055-4D1C-A467-D2E2F604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30DA0-8E5D-4C3E-9927-301C6F65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FEFD0-8647-4BC5-8104-AEEC6F74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FB9A-2DFC-4867-9E0A-777B665F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94932-49C0-478C-A3F1-40E8F68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A1FC5-153F-4B89-80D8-5EB7A5A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1B9-90F2-489D-A5B4-2CCE6F6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CB195-575D-4159-9F4A-466F513B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9C65-DD0B-4A48-8104-3F0E39CF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0059-AF3A-420D-A494-43306BB1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0CF4F-95DF-4082-ACCF-D31D4A53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56DF3-31A2-4BF4-8258-22C06EFE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C7353-20D3-4886-B943-E638EFBA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6E0CF-B311-4B90-A0F7-99A56CF9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07215-9014-413A-94DC-758EAF70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CEED3-0B6E-432D-94D5-5ACCA9BE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3DD0C-4D8E-496F-9A8D-0F56D14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33B-C9B8-4DEF-BFBB-42BE977C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69443-386F-49BC-B48E-02789EA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0D1E6-60E5-45D4-9D1E-5E5F46B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26E14-0B15-4521-B718-8FF3DE10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6BA8F-D2DA-4542-A5B3-C36DCE73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97DA2-B7FC-4C7C-A322-1E0F7006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E6AC7-C009-4F94-ADB5-90CE99BB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5D03B-30B3-415B-8B47-0F98BDE7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B6906-C33B-47A5-8EAA-3B60807A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51A4-0F63-4F2A-A71F-82DB74D7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EC3E1-27DB-46A4-8E76-C80630C4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BAA-D036-4E9E-97A0-196066AA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565FA-384A-4E9A-85EB-280FE274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8F40B-F633-46AB-B73F-D7B2C47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1532-D672-48E7-BBEC-EE1FC28B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E3880-EBCD-4C07-8CB3-61EF6EFF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45B26-8329-456D-A3AE-76D595FF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B499E-7CCA-43E6-A342-851D5D3A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39EAC-D42D-41E0-8730-5B1AE3A8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65459-9489-4F1A-B39E-AB754B93433F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2FE64-EB88-475F-A25C-29C4A4C789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26CE2-230C-45B9-B3A9-7B4F5724E3F8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E1FB8-D7B6-4A16-ABF3-D28AB9834AB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59A96-05B4-402E-A8D8-C851BFE1712F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19DD6-C913-4B29-8B55-7363B5D6756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FF45F-2E69-4106-A785-826C5A8682DE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C8896-1F1E-4CB0-91FD-249DA26580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E2334-717F-4F57-AB67-44D3BB8FC87E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EF0A4-91CD-4EC6-80D8-84AC884B0F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D7136-5E5E-47E8-8425-F5C4EC7F6079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CB12C-601D-4237-A80F-BE7C7A7545EC}" type="slidenum">
              <a:rPr b="1" lang="en-US" sz="1400" spc="-1" strike="noStrike">
                <a:solidFill>
                  <a:srgbClr val="6d709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649C7-0210-49BE-B52D-06003E525268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F2982-93ED-4F6B-B374-D6217419525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d70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68872-6137-4F72-B59A-CBDAECDF8A33}" type="datetime">
              <a:rPr b="0" lang="en-US" sz="1400" spc="-1" strike="noStrike">
                <a:solidFill>
                  <a:srgbClr val="6d709e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3AA91-310E-4175-ACF5-03FB63868C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709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d709e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cl.ac.uk/history/courses/europe1/chron/rch5.htm" TargetMode="External"/><Relationship Id="rId2" Type="http://schemas.openxmlformats.org/officeDocument/2006/relationships/hyperlink" Target="http://chnm.gmu.edu/revolution/" TargetMode="External"/><Relationship Id="rId3" Type="http://schemas.openxmlformats.org/officeDocument/2006/relationships/hyperlink" Target="http://www.napoleonguide.com/index.htm" TargetMode="External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END OF THE RADICAL REV</a:t>
            </a: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(remainder of today's ppt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1066680" y="212760"/>
            <a:ext cx="7153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Religious Terror:</a:t>
            </a:r>
            <a:br>
              <a:rPr sz="4000"/>
            </a:b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De-Christianization </a:t>
            </a:r>
            <a:r>
              <a:rPr b="1" lang="en-US" sz="3200" spc="-1" strike="noStrike">
                <a:solidFill>
                  <a:srgbClr val="ff3300"/>
                </a:solidFill>
                <a:latin typeface="BlackChancery"/>
              </a:rPr>
              <a:t>(1793-1794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1371600" y="1866960"/>
            <a:ext cx="6705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buClr>
                <a:srgbClr val="d0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atholic Church was linked wi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l or potential counter-revoluti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>
              <a:lnSpc>
                <a:spcPct val="100000"/>
              </a:lnSpc>
              <a:buClr>
                <a:srgbClr val="d0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ligion was associated with the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Ancien Régim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superstitiou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actice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>
              <a:lnSpc>
                <a:spcPct val="100000"/>
              </a:lnSpc>
              <a:buClr>
                <a:srgbClr val="d0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ery popular among the 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sans-culott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>
              <a:lnSpc>
                <a:spcPct val="100000"/>
              </a:lnSpc>
              <a:buClr>
                <a:srgbClr val="d0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fore, religion had no place in 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tional, secular republic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762120" y="277920"/>
            <a:ext cx="76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The De-Christianization Progra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1164240" y="1450800"/>
            <a:ext cx="69235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doption of a new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publican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alend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bolished Sundays &amp; religious holiday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ths named after seasonal featur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-day weeks replaced by 10-da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cad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yearly calendar was dated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creation of the Republ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[Sept. 22, 1792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Line 4"/>
          <p:cNvSpPr/>
          <p:nvPr/>
        </p:nvSpPr>
        <p:spPr>
          <a:xfrm>
            <a:off x="4724280" y="5029200"/>
            <a:ext cx="0" cy="762120"/>
          </a:xfrm>
          <a:prstGeom prst="line">
            <a:avLst/>
          </a:prstGeom>
          <a:ln w="38160">
            <a:solidFill>
              <a:srgbClr val="6d70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2666880" y="5791320"/>
            <a:ext cx="4496040" cy="39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20424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600200" y="57150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d8047"/>
                </a:solidFill>
                <a:latin typeface="Comic Sans MS"/>
              </a:rPr>
              <a:t>The Convention symbolically divorced the state from the Church!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1371600" y="243000"/>
            <a:ext cx="641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A Republican Calendar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3" name="Picture 3" descr="Republican Calendar"/>
          <p:cNvPicPr/>
          <p:nvPr/>
        </p:nvPicPr>
        <p:blipFill>
          <a:blip r:embed="rId1"/>
          <a:stretch/>
        </p:blipFill>
        <p:spPr>
          <a:xfrm>
            <a:off x="2265480" y="1066680"/>
            <a:ext cx="4744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990720" y="25884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The New Republican Calendar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143000" y="905040"/>
          <a:ext cx="7086600" cy="5154480"/>
        </p:xfrm>
        <a:graphic>
          <a:graphicData uri="http://schemas.openxmlformats.org/drawingml/2006/table">
            <a:tbl>
              <a:tblPr/>
              <a:tblGrid>
                <a:gridCol w="1752480"/>
                <a:gridCol w="1524240"/>
                <a:gridCol w="3809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ec0000"/>
                          </a:solidFill>
                          <a:uFillTx/>
                          <a:latin typeface="Comic Sans MS"/>
                        </a:rPr>
                        <a:t>New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omic Sans MS"/>
                        </a:rPr>
                        <a:t>Time 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Vendem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n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ptember 22 – October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Brum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ctober 22 – November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Frim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vember 21 – December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Niv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cember 21 – January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Pluvi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anuary 20 – February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Vent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ebruary 19 – March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Germ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ud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ch 21 – April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Flo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lo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pril 20 – May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Prai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ead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y 20 – June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Mess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arv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une 19 – July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Therm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uly 19 – August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0000"/>
                          </a:solidFill>
                          <a:latin typeface="Comic Sans MS"/>
                        </a:rPr>
                        <a:t>Fruct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ugust 18 – September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685800" y="152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A New Republican Calendar Year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971800" y="914400"/>
          <a:ext cx="3581280" cy="5181480"/>
        </p:xfrm>
        <a:graphic>
          <a:graphicData uri="http://schemas.openxmlformats.org/drawingml/2006/table">
            <a:tbl>
              <a:tblPr/>
              <a:tblGrid>
                <a:gridCol w="1171440"/>
                <a:gridCol w="240984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2 – 1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3 – 1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4 – 17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5 – 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6 – 17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7 – 17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8 – 17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799 – 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0 – 18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1 – 18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2 – 1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3 – 1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4 – 18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8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8" name="Rectangle 91"/>
          <p:cNvSpPr/>
          <p:nvPr/>
        </p:nvSpPr>
        <p:spPr>
          <a:xfrm>
            <a:off x="2612160" y="6184800"/>
            <a:ext cx="59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d8047"/>
                </a:solidFill>
                <a:latin typeface="Comic Sans MS"/>
              </a:rPr>
              <a:t>The Gregorian System returned in 1806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928800" y="228600"/>
            <a:ext cx="73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The De-Christianization Progra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1143000" y="1069920"/>
            <a:ext cx="73152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blic exercise of religion w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nn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ris Commune supported th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struction of religious &amp; royal statu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n on clerical dres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PressWriter Symbols" charset="2"/>
              <a:buChar char="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ncouragement of the clergy to give up their voca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thedral of Notre Dame in Par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turned into the </a:t>
            </a:r>
            <a:r>
              <a:rPr b="1" lang="en-US" sz="2400" spc="-1" strike="noStrike">
                <a:solidFill>
                  <a:srgbClr val="dd8047"/>
                </a:solidFill>
                <a:latin typeface="Comic Sans MS"/>
              </a:rPr>
              <a:t>“Temple of Reason.”</a:t>
            </a:r>
            <a:br>
              <a:rPr sz="2400"/>
            </a:br>
            <a:r>
              <a:rPr b="1" lang="en-US" sz="2400" spc="-1" strike="noStrike">
                <a:solidFill>
                  <a:srgbClr val="dd804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ortation of priests denounc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 citizen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380880" y="272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“Temple of Reason”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2449440" y="5943600"/>
            <a:ext cx="66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dd8047"/>
                </a:solidFill>
                <a:latin typeface="Comic Sans MS"/>
              </a:rPr>
              <a:t>Come, holy Liberty, inhabit this temple, </a:t>
            </a:r>
            <a:br>
              <a:rPr sz="2400"/>
            </a:br>
            <a:r>
              <a:rPr b="1" i="1" lang="en-US" sz="2400" spc="-1" strike="noStrike">
                <a:solidFill>
                  <a:srgbClr val="dd8047"/>
                </a:solidFill>
                <a:latin typeface="Comic Sans MS"/>
              </a:rPr>
              <a:t>Become the goddess of the French peop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3" name="Picture 4" descr="gothic_notre_dame-paris"/>
          <p:cNvPicPr/>
          <p:nvPr/>
        </p:nvPicPr>
        <p:blipFill>
          <a:blip r:embed="rId1">
            <a:lum contrast="6000"/>
          </a:blip>
          <a:srcRect l="0" t="7446" r="0" b="0"/>
          <a:stretch/>
        </p:blipFill>
        <p:spPr>
          <a:xfrm>
            <a:off x="1676520" y="1220760"/>
            <a:ext cx="5943600" cy="434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28600" y="21276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Festival of Supreme Being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5" name="Picture 3" descr="supreme04"/>
          <p:cNvPicPr/>
          <p:nvPr/>
        </p:nvPicPr>
        <p:blipFill>
          <a:blip r:embed="rId1"/>
          <a:srcRect l="4666" t="5059" r="3779" b="10192"/>
          <a:stretch/>
        </p:blipFill>
        <p:spPr>
          <a:xfrm>
            <a:off x="838080" y="1109520"/>
            <a:ext cx="7543800" cy="483408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  <p:sp>
        <p:nvSpPr>
          <p:cNvPr id="456" name="Text Box 4"/>
          <p:cNvSpPr/>
          <p:nvPr/>
        </p:nvSpPr>
        <p:spPr>
          <a:xfrm>
            <a:off x="2590920" y="609588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new secular holida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1066680" y="15228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Backlash to the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De-Christianization Progra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432080" y="1600200"/>
            <a:ext cx="6557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alienated most of the popul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specially in the rural areas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bespierre never supported i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e persuaded the Convention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affirm the principle of religio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ler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ree on the </a:t>
            </a:r>
            <a:r>
              <a:rPr b="1" lang="en-US" sz="2800" spc="-1" strike="noStrike">
                <a:solidFill>
                  <a:srgbClr val="dd8047"/>
                </a:solidFill>
                <a:latin typeface="Comic Sans MS"/>
              </a:rPr>
              <a:t>“Liberty of Cult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 pass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cember 6, 1793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8432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, it had little practical effect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5029200" y="822240"/>
            <a:ext cx="3429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lackChancery"/>
              </a:rPr>
              <a:t>The Radical’s Arm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Comic Sans MS"/>
              </a:rPr>
              <a:t>No God!</a:t>
            </a:r>
            <a:br>
              <a:rPr sz="3200"/>
            </a:br>
            <a:r>
              <a:rPr b="1" lang="en-US" sz="3200" spc="-1" strike="noStrike">
                <a:solidFill>
                  <a:srgbClr val="dd8047"/>
                </a:solidFill>
                <a:latin typeface="Comic Sans MS"/>
              </a:rPr>
              <a:t>No Religion!</a:t>
            </a:r>
            <a:br>
              <a:rPr sz="3200"/>
            </a:br>
            <a:r>
              <a:rPr b="1" lang="en-US" sz="3200" spc="-1" strike="noStrike">
                <a:solidFill>
                  <a:srgbClr val="dd8047"/>
                </a:solidFill>
                <a:latin typeface="Comic Sans MS"/>
              </a:rPr>
              <a:t>No King!</a:t>
            </a:r>
            <a:br>
              <a:rPr sz="3200"/>
            </a:br>
            <a:r>
              <a:rPr b="1" lang="en-US" sz="3200" spc="-1" strike="noStrike">
                <a:solidFill>
                  <a:srgbClr val="dd8047"/>
                </a:solidFill>
                <a:latin typeface="Comic Sans MS"/>
              </a:rPr>
              <a:t>No Constitution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0" name="Picture 3" descr="No God No Religion No King No Constitution"/>
          <p:cNvPicPr/>
          <p:nvPr/>
        </p:nvPicPr>
        <p:blipFill>
          <a:blip r:embed="rId1">
            <a:lum contrast="6000"/>
          </a:blip>
          <a:srcRect l="1768" t="1266" r="2797" b="1266"/>
          <a:stretch/>
        </p:blipFill>
        <p:spPr>
          <a:xfrm>
            <a:off x="838080" y="457200"/>
            <a:ext cx="4114800" cy="586728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914400" y="1522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Guillotine: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An “Enlightenment Tool”</a:t>
            </a:r>
            <a:r>
              <a:rPr b="1" lang="en-US" sz="4400" spc="-1" strike="noStrike">
                <a:solidFill>
                  <a:srgbClr val="dd8047"/>
                </a:solidFill>
                <a:latin typeface="BlackChancery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914400" y="1676520"/>
            <a:ext cx="7467480" cy="521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Oh, thou charming guillotine, 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You shorten kings and queens;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By your influence divine,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We have re-conquered our rights.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Come to aid of the Country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And let your superb instrument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Become forever permanent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To destroy the impious sect.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Sharpen your razor for Pitt and his agents</a:t>
            </a: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Nosferatu"/>
              </a:rPr>
              <a:t>Fill your divine sack with heads of tyrant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1562040" y="168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The Terror Intensified: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March to July, 1794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1219320" y="3765600"/>
            <a:ext cx="71625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PressWriter Symbols" charset="2"/>
              <a:buChar char="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Comic Sans MS"/>
              </a:rPr>
              <a:t>Law of 22 Prair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June 10, 1794]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852480" indent="-21744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ials were now limited to deciding only on liberty OR death, with defendants having no righ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52480" indent="-21744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ere you 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“enemy of the people?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(the law was so broadly written that almost anyone could fall within its definition!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PressWriter Symbols" charset="2"/>
              <a:buChar char="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500 executed between June &amp; Jul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Oval 4"/>
          <p:cNvSpPr/>
          <p:nvPr/>
        </p:nvSpPr>
        <p:spPr>
          <a:xfrm>
            <a:off x="5715000" y="1752480"/>
            <a:ext cx="2514600" cy="1295640"/>
          </a:xfrm>
          <a:prstGeom prst="ellipse">
            <a:avLst/>
          </a:prstGeom>
          <a:solidFill>
            <a:srgbClr val="dd8047"/>
          </a:solidFill>
          <a:ln w="0">
            <a:noFill/>
          </a:ln>
          <a:effectLst>
            <a:outerShdw dist="17819" dir="2700000" blurRad="0" rotWithShape="0">
              <a:srgbClr val="854d2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943600" y="2057400"/>
            <a:ext cx="20574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d709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anton &amp; th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“Indulgents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Line 6"/>
          <p:cNvSpPr/>
          <p:nvPr/>
        </p:nvSpPr>
        <p:spPr>
          <a:xfrm flipH="1">
            <a:off x="5105520" y="2362320"/>
            <a:ext cx="761760" cy="0"/>
          </a:xfrm>
          <a:prstGeom prst="line">
            <a:avLst/>
          </a:prstGeom>
          <a:ln w="38160">
            <a:solidFill>
              <a:srgbClr val="dd80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AutoShape 7"/>
          <p:cNvSpPr/>
          <p:nvPr/>
        </p:nvSpPr>
        <p:spPr>
          <a:xfrm rot="12667200">
            <a:off x="4038120" y="1751760"/>
            <a:ext cx="1143000" cy="1219320"/>
          </a:xfrm>
          <a:prstGeom prst="irregularSeal1">
            <a:avLst/>
          </a:prstGeom>
          <a:gradFill rotWithShape="0">
            <a:gsLst>
              <a:gs pos="0">
                <a:srgbClr val="ffff66"/>
              </a:gs>
              <a:gs pos="100000">
                <a:srgbClr val="f06100"/>
              </a:gs>
            </a:gsLst>
            <a:lin ang="834000"/>
          </a:gradFill>
          <a:ln w="0">
            <a:noFill/>
          </a:ln>
          <a:effectLst>
            <a:outerShdw dist="17819" dir="2700000" blurRad="0" rotWithShape="0">
              <a:srgbClr val="903a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Oval 8"/>
          <p:cNvSpPr/>
          <p:nvPr/>
        </p:nvSpPr>
        <p:spPr>
          <a:xfrm flipH="1">
            <a:off x="913680" y="1752480"/>
            <a:ext cx="251460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Text Box 9"/>
          <p:cNvSpPr/>
          <p:nvPr/>
        </p:nvSpPr>
        <p:spPr>
          <a:xfrm flipH="1">
            <a:off x="1218600" y="1889280"/>
            <a:ext cx="20574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d709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Jacques Hébert &amp; th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érbetis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3352680" y="2362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631120" y="3060720"/>
            <a:ext cx="275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Executed in April, 1794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771840" y="3060720"/>
            <a:ext cx="2943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Executed in March, 1794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85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385" fill="hold"/>
                                        <p:tgtEl>
                                          <p:spTgt spid="4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385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385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838080" y="160200"/>
            <a:ext cx="754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ff3300"/>
                </a:solidFill>
                <a:latin typeface="BlackChancery"/>
              </a:rPr>
              <a:t>French Victory at Fleurus</a:t>
            </a:r>
            <a:endParaRPr b="0" lang="en-US" sz="4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3" name="Picture 3" descr="fleurus"/>
          <p:cNvPicPr/>
          <p:nvPr/>
        </p:nvPicPr>
        <p:blipFill>
          <a:blip r:embed="rId1"/>
          <a:stretch/>
        </p:blipFill>
        <p:spPr>
          <a:xfrm>
            <a:off x="228600" y="1371600"/>
            <a:ext cx="4572000" cy="395280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  <p:sp>
        <p:nvSpPr>
          <p:cNvPr id="474" name="Rectangle 4"/>
          <p:cNvSpPr/>
          <p:nvPr/>
        </p:nvSpPr>
        <p:spPr>
          <a:xfrm>
            <a:off x="4724280" y="228600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d0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une 26, 1794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06440" indent="-406440">
              <a:lnSpc>
                <a:spcPct val="100000"/>
              </a:lnSpc>
              <a:buClr>
                <a:srgbClr val="d0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ance defeated Austri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06440" indent="-406440">
              <a:lnSpc>
                <a:spcPct val="100000"/>
              </a:lnSpc>
              <a:buClr>
                <a:srgbClr val="d0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opened the way to the reoccupation of Belgium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0" y="411120"/>
            <a:ext cx="8915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The “Thermidorean Reaction,” </a:t>
            </a: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1794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600200" y="1455840"/>
            <a:ext cx="62485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buClr>
                <a:srgbClr val="d00000"/>
              </a:buClr>
              <a:buFont typeface="Even More Dings JL"/>
              <a:buChar char="P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uly 26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Robespierre gives 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speech illustrating new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plots &amp; conspiraci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e alienated members of the CP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amp; CGS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1022400" indent="-277920">
              <a:lnSpc>
                <a:spcPct val="100000"/>
              </a:lnSpc>
              <a:buClr>
                <a:srgbClr val="dd8047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ny felt threatened by his     implications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465120" indent="-465120">
              <a:lnSpc>
                <a:spcPct val="100000"/>
              </a:lnSpc>
              <a:buClr>
                <a:srgbClr val="d00000"/>
              </a:buClr>
              <a:buFont typeface="Even More Dings JL"/>
              <a:buChar char="P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uly 27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Convention arres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Robespier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65120" indent="-465120">
              <a:lnSpc>
                <a:spcPct val="100000"/>
              </a:lnSpc>
              <a:buClr>
                <a:srgbClr val="d00000"/>
              </a:buClr>
              <a:buFont typeface="Even More Dings JL"/>
              <a:buChar char="P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uly 28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Robespierre is tried &amp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guillotined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1295280" y="76320"/>
            <a:ext cx="659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Arrest of Robespierr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8" name="Picture 3" descr="robespierre04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470556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09480" y="15228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Revolution Consumes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Its Own Children!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0" name="Picture 3" descr="Danton execution"/>
          <p:cNvPicPr/>
          <p:nvPr/>
        </p:nvPicPr>
        <p:blipFill>
          <a:blip r:embed="rId1"/>
          <a:stretch/>
        </p:blipFill>
        <p:spPr>
          <a:xfrm>
            <a:off x="1062000" y="2043000"/>
            <a:ext cx="244332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1" name="Text Box 4"/>
          <p:cNvSpPr/>
          <p:nvPr/>
        </p:nvSpPr>
        <p:spPr>
          <a:xfrm>
            <a:off x="990720" y="4786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nton Awaits Execution, 1793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2" name="Picture 5" descr="Robespierre wounded"/>
          <p:cNvPicPr/>
          <p:nvPr/>
        </p:nvPicPr>
        <p:blipFill>
          <a:blip r:embed="rId2"/>
          <a:stretch/>
        </p:blipFill>
        <p:spPr>
          <a:xfrm>
            <a:off x="4114800" y="1981080"/>
            <a:ext cx="3886200" cy="247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3" name="Text Box 6"/>
          <p:cNvSpPr/>
          <p:nvPr/>
        </p:nvSpPr>
        <p:spPr>
          <a:xfrm>
            <a:off x="4114800" y="4495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bespierre Lies Wound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efore the Revolutionary Tribunal that will order him to be guillotined, 1794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785880" y="22860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The “Cultural Revolution”Brought About by the Conven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990720" y="182880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premised upon Enlightenment principles of rationalit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tric system of weights and measur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51000" indent="-336600">
              <a:lnSpc>
                <a:spcPct val="100000"/>
              </a:lnSpc>
              <a:buClr>
                <a:srgbClr val="dd8047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as defined by the French Academy of Sciences in 1791 and enforced in 1793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1251000" indent="-336600">
              <a:lnSpc>
                <a:spcPct val="100000"/>
              </a:lnSpc>
              <a:buClr>
                <a:srgbClr val="dd8047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t replaced weights and measures that had their origins in the Middle Ages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olition of slavery within France in 1791 and throughout the French colonies in 1794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1680" indent="-571680">
              <a:lnSpc>
                <a:spcPct val="100000"/>
              </a:lnSpc>
              <a:buClr>
                <a:srgbClr val="ec0000"/>
              </a:buClr>
              <a:buFont typeface="Wingdings" charset="2"/>
              <a:buChar char="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vention legalized divorce and enacted shared inheritance laws [even for illegitimate offspring] in an attempt to eradicate inequaliti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785880" y="239760"/>
            <a:ext cx="77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lackChancery"/>
              </a:rPr>
              <a:t>Read More About the Revolu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7" name="Picture 3" descr="ah_faculty_schama_book_cilg"/>
          <p:cNvPicPr/>
          <p:nvPr/>
        </p:nvPicPr>
        <p:blipFill>
          <a:blip r:embed="rId1"/>
          <a:srcRect l="-53732" t="0" r="-53732" b="0"/>
          <a:stretch/>
        </p:blipFill>
        <p:spPr>
          <a:xfrm>
            <a:off x="457200" y="1001880"/>
            <a:ext cx="8229600" cy="58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1777320" y="387360"/>
            <a:ext cx="5659560" cy="642600"/>
          </a:xfrm>
          <a:prstGeom prst="rect">
            <a:avLst/>
          </a:prstGeom>
          <a:solidFill>
            <a:srgbClr val="ec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lackChancery"/>
              </a:rPr>
              <a:t>Bibliographic Resourc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990720" y="1371600"/>
            <a:ext cx="723888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st210—Europe in the Age of Revolutions.”</a:t>
            </a:r>
            <a:br>
              <a:rPr sz="2400"/>
            </a:br>
            <a:r>
              <a:rPr b="0" lang="en-US" sz="2400" spc="-1" strike="noStrike" u="sng">
                <a:solidFill>
                  <a:srgbClr val="f7b615"/>
                </a:solidFill>
                <a:uFillTx/>
                <a:latin typeface="Comic Sans MS"/>
                <a:hlinkClick r:id="rId1"/>
              </a:rPr>
              <a:t>http://www.ucl.ac.uk/history/courses/europe1/chron/rch5.ht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berty, Fraternity, Equality:  Exploring the French Revolution.”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Comic Sans MS"/>
                <a:hlinkClick r:id="rId2"/>
              </a:rPr>
              <a:t>http://chnm.gmu.edu/revolution/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thews, Andrew.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volution and  Reaction: Europe, 1789-184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Cambridg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versity Press, 2001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apoleonic Guide.” </a:t>
            </a:r>
            <a:br>
              <a:rPr sz="2400"/>
            </a:br>
            <a:r>
              <a:rPr b="0" lang="en-US" sz="2400" spc="-1" strike="noStrike" u="sng">
                <a:solidFill>
                  <a:srgbClr val="f7b615"/>
                </a:solidFill>
                <a:uFillTx/>
                <a:latin typeface="Comic Sans MS"/>
                <a:hlinkClick r:id="rId3"/>
              </a:rPr>
              <a:t>http://www.napoleonguide.com/index.ht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914400" y="39672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Different Social Classes Executed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3" descr="pie graph-executions during Reign of Terror"/>
          <p:cNvPicPr/>
          <p:nvPr/>
        </p:nvPicPr>
        <p:blipFill>
          <a:blip r:embed="rId1">
            <a:lum contrast="6000"/>
          </a:blip>
          <a:srcRect l="0" t="0" r="0" b="17119"/>
          <a:stretch/>
        </p:blipFill>
        <p:spPr>
          <a:xfrm>
            <a:off x="2057400" y="2286000"/>
            <a:ext cx="5257800" cy="3581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42670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733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1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4382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274320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27672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1371600" y="282600"/>
            <a:ext cx="64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The “Monster” Guillotin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Picture 3" descr="Terror"/>
          <p:cNvPicPr/>
          <p:nvPr/>
        </p:nvPicPr>
        <p:blipFill>
          <a:blip r:embed="rId1"/>
          <a:stretch/>
        </p:blipFill>
        <p:spPr>
          <a:xfrm>
            <a:off x="1447920" y="1143000"/>
            <a:ext cx="6324480" cy="430056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  <p:sp>
        <p:nvSpPr>
          <p:cNvPr id="411" name="Rectangle 4"/>
          <p:cNvSpPr/>
          <p:nvPr/>
        </p:nvSpPr>
        <p:spPr>
          <a:xfrm>
            <a:off x="2627640" y="6130800"/>
            <a:ext cx="62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ast guillotine execution in France was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193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7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lackChancery"/>
              </a:rPr>
              <a:t>War of Resistance to the Revolution: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BlackChancery"/>
              </a:rPr>
              <a:t>The Vendee Revolt, 1793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3" descr="map-Vendée Rebellion, 1793"/>
          <p:cNvPicPr/>
          <p:nvPr/>
        </p:nvPicPr>
        <p:blipFill>
          <a:blip r:embed="rId1">
            <a:lum contrast="6000"/>
          </a:blip>
          <a:srcRect l="1679" t="1341" r="2795" b="0"/>
          <a:stretch/>
        </p:blipFill>
        <p:spPr>
          <a:xfrm>
            <a:off x="4343400" y="1523880"/>
            <a:ext cx="3833640" cy="495324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  <p:pic>
        <p:nvPicPr>
          <p:cNvPr id="414" name="Picture 4" descr="Vendee Revolt-1793"/>
          <p:cNvPicPr/>
          <p:nvPr/>
        </p:nvPicPr>
        <p:blipFill>
          <a:blip r:embed="rId2"/>
          <a:stretch/>
        </p:blipFill>
        <p:spPr>
          <a:xfrm>
            <a:off x="685800" y="1523880"/>
            <a:ext cx="2828880" cy="4219560"/>
          </a:xfrm>
          <a:prstGeom prst="rect">
            <a:avLst/>
          </a:prstGeom>
          <a:ln w="9360">
            <a:solidFill>
              <a:srgbClr val="ebddc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644480" y="318960"/>
            <a:ext cx="59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lackChancery"/>
              </a:rPr>
              <a:t>Vendee</a:t>
            </a: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 Revolt, 1793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6" name="Picture 3" descr="drowning12-6-93"/>
          <p:cNvPicPr/>
          <p:nvPr/>
        </p:nvPicPr>
        <p:blipFill>
          <a:blip r:embed="rId1"/>
          <a:srcRect l="1165" t="2774" r="2323" b="12526"/>
          <a:stretch/>
        </p:blipFill>
        <p:spPr>
          <a:xfrm>
            <a:off x="1066680" y="1538280"/>
            <a:ext cx="5257800" cy="386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Rectangle 4"/>
          <p:cNvSpPr/>
          <p:nvPr/>
        </p:nvSpPr>
        <p:spPr>
          <a:xfrm>
            <a:off x="1681920" y="550080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owning the Traitor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5" descr="Vendee symbol-for God and the King"/>
          <p:cNvPicPr/>
          <p:nvPr/>
        </p:nvPicPr>
        <p:blipFill>
          <a:blip r:embed="rId2"/>
          <a:stretch/>
        </p:blipFill>
        <p:spPr>
          <a:xfrm>
            <a:off x="6705720" y="1905120"/>
            <a:ext cx="1523880" cy="1920600"/>
          </a:xfrm>
          <a:prstGeom prst="rect">
            <a:avLst/>
          </a:prstGeom>
          <a:ln w="9360">
            <a:solidFill>
              <a:srgbClr val="6d709e"/>
            </a:solidFill>
            <a:miter/>
          </a:ln>
        </p:spPr>
      </p:pic>
      <p:sp>
        <p:nvSpPr>
          <p:cNvPr id="419" name="Rectangle 6"/>
          <p:cNvSpPr/>
          <p:nvPr/>
        </p:nvSpPr>
        <p:spPr>
          <a:xfrm>
            <a:off x="6553080" y="41911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ee Symbol:</a:t>
            </a:r>
            <a:br>
              <a:rPr sz="2400"/>
            </a:b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For God &amp; the King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1219320" y="228600"/>
            <a:ext cx="669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Why was there a Revolt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in the </a:t>
            </a:r>
            <a:r>
              <a:rPr b="1" i="1" lang="en-US" sz="4400" spc="-1" strike="noStrike">
                <a:solidFill>
                  <a:srgbClr val="ff3300"/>
                </a:solidFill>
                <a:latin typeface="BlackChancery"/>
              </a:rPr>
              <a:t>Vendee</a:t>
            </a: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1015920" y="1903320"/>
            <a:ext cx="67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ed for 300,000 French troo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war effor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ral peasantry still highly taxe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entment of the Civil Constitu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lergy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ec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asants had failed to benefit fr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ale of church land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479600" y="5518080"/>
            <a:ext cx="1823760" cy="520560"/>
          </a:xfrm>
          <a:prstGeom prst="rect">
            <a:avLst/>
          </a:prstGeom>
          <a:noFill/>
          <a:ln w="936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8047"/>
                </a:solidFill>
                <a:latin typeface="Comic Sans MS"/>
              </a:rPr>
              <a:t>TARGET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Line 5"/>
          <p:cNvSpPr/>
          <p:nvPr/>
        </p:nvSpPr>
        <p:spPr>
          <a:xfrm flipV="1">
            <a:off x="3429000" y="5442120"/>
            <a:ext cx="838080" cy="304560"/>
          </a:xfrm>
          <a:prstGeom prst="line">
            <a:avLst/>
          </a:prstGeom>
          <a:ln w="2844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429000" y="5823000"/>
            <a:ext cx="838080" cy="0"/>
          </a:xfrm>
          <a:prstGeom prst="line">
            <a:avLst/>
          </a:prstGeom>
          <a:ln w="2844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3429000" y="5899320"/>
            <a:ext cx="838080" cy="304560"/>
          </a:xfrm>
          <a:prstGeom prst="line">
            <a:avLst/>
          </a:prstGeom>
          <a:ln w="2844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4267080" y="521352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government offici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ional Guardsm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rying pries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838080" y="457200"/>
            <a:ext cx="750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Political Propagand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0" name="Picture 5" descr="The Contrast-Br_vs_FrLiberty"/>
          <p:cNvPicPr/>
          <p:nvPr/>
        </p:nvPicPr>
        <p:blipFill>
          <a:blip r:embed="rId1"/>
          <a:srcRect l="0" t="-3819" r="0" b="-3819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762120" y="233280"/>
            <a:ext cx="7697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lackChancery"/>
              </a:rPr>
              <a:t>The Contrast: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BlackChancery"/>
              </a:rPr>
              <a:t>“French Liberty / British Slavery”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4" name="Picture 5" descr="French Liberty-English Slavery"/>
          <p:cNvPicPr/>
          <p:nvPr/>
        </p:nvPicPr>
        <p:blipFill>
          <a:blip r:embed="rId1">
            <a:lum contrast="12000"/>
          </a:blip>
          <a:srcRect l="0" t="-965" r="0" b="-965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9360">
            <a:solidFill>
              <a:srgbClr val="6d70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7:25:11Z</dcterms:created>
  <dc:creator>Sue Gregory</dc:creator>
  <dc:description/>
  <dc:language>en-US</dc:language>
  <cp:lastModifiedBy>Sue Gregory</cp:lastModifiedBy>
  <dcterms:modified xsi:type="dcterms:W3CDTF">2009-01-21T07:33:22Z</dcterms:modified>
  <cp:revision>3</cp:revision>
  <dc:subject/>
  <dc:title>End of the Radical Rev </dc:title>
</cp:coreProperties>
</file>